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7A86-CE38-45C7-8D3A-DD6E68DA3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923E-FC99-4141-830C-162885689A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7C4-8A0D-4DCD-800A-7B326243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6B0-0C59-409A-8890-6B3C9716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D71-B27B-464C-802A-692552FF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415-FC6F-445E-B091-C3334EE3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327-3AF3-494D-AB8D-AB26DD1B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7AE-06B1-4D27-969A-D4DE6A3C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742-1F55-4F97-BD12-D222011F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66E-C7E9-42BA-AEE0-E6F316ED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BFD-7337-4BB4-82A0-38CDBC3C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E11-4D1B-4AEE-B393-010690FB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5FD-6568-4B19-9789-4F8718FD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DCE-1675-45C9-8F16-4A0A260C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97C8-C14D-4227-A030-0548447BE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0 секунд, которые изменят вашу жизнь.mp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2580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69134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123920"/>
            <a:ext cx="8424720" cy="75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ование метафор(обсуждение рисунков)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суждение древней или современной       прит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монстрация мультфильмов, снятых по мотивам притч и их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дрые изречения философов, цитаты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ое собрание включает в себ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основных компон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Анализ учебных достижений учащихся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Знакомство родителей с состоянием эмоционального климата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сихолого - педагогическое просвещ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суждение организационных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ичные бесед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user\Desktop\eZre0fd_B9A.jpg"/>
          <p:cNvPicPr/>
          <p:nvPr/>
        </p:nvPicPr>
        <p:blipFill>
          <a:blip r:embed="rId1"/>
          <a:stretch/>
        </p:blipFill>
        <p:spPr>
          <a:xfrm>
            <a:off x="3780000" y="1892160"/>
            <a:ext cx="2587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892160"/>
            <a:ext cx="8136000" cy="40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произнести ци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упражнение «портфель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вручение памя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в единстве процесса обучения и воспитания и при активном участии в нем сообществ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, родитель и учитель, можно считать ученика моделью высоко качественного воспитания и образова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92"/>
          <p:cNvPicPr/>
          <p:nvPr/>
        </p:nvPicPr>
        <p:blipFill>
          <a:blip r:embed="rId1"/>
          <a:stretch/>
        </p:blipFill>
        <p:spPr>
          <a:xfrm>
            <a:off x="0" y="4394160"/>
            <a:ext cx="168264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5280" y="4292280"/>
            <a:ext cx="74883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семейное воспитание во многом определяет, каким станет человек. Ни государство, ни даже лучшие педагоги ребенку заменить семью не могут». В. В. Пут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11120" y="3860640"/>
            <a:ext cx="4176720" cy="256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рупп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сещение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иглашение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ндивидуальные консультации         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й лек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ассные детски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е веч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ласс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емейные кл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бщешколь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онц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ыставки учебных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ворческие 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59:56Z</dcterms:created>
  <dc:creator>AK</dc:creator>
  <dc:description/>
  <dc:language>en-US</dc:language>
  <cp:lastModifiedBy>User</cp:lastModifiedBy>
  <dcterms:modified xsi:type="dcterms:W3CDTF">2019-01-16T12:46:17Z</dcterms:modified>
  <cp:revision>51</cp:revision>
  <dc:subject/>
  <dc:title>Слайд 1</dc:title>
</cp:coreProperties>
</file>